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95ED-1457-4F3A-B695-F6EE03404E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752D-2651-47E1-A7E2-642403424D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38C-4893-4A89-AB83-35FEEE04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7F3-92E9-46AA-84DF-B6E20587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15B-1439-42F8-9767-84489220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5F6-8482-47DC-A4A7-FAF03A49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2A3C-14F1-4760-BC87-CE3F8FD9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A7AC-2F1B-4E80-913C-EE3693AE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C4A2-A14D-4E42-9D8F-46740D31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AE32-00AC-428C-B0A7-F7762247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6CE2-3839-43E0-A7B2-64EF5CE9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C81E-67D8-47BA-B3A7-BE92FF8C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782C-F517-4BB6-B95F-ABE168B3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3B4-F35E-4315-A6AD-B012D76B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93A6-3DC7-4980-B390-01E2CB7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F712-B440-417C-B3E4-645E63B0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878F-E598-4893-838D-3180E27F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3554-C051-489A-B952-16E83464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3E00-314B-411D-BB40-C3015918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DCA-EF08-4F6D-9038-B24F4F7A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787-7FA2-4F0E-9C2D-DF54EFB9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055-9CAC-4CFE-80AF-B083D3CE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529-6452-430C-ACA5-BB4BF915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D65-A8EC-4BF7-981C-A57F95D6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EC0-1C93-419E-B7A0-197C69BF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C84-C015-41D0-A66F-1E9C2E06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3E9F-BE05-458B-B3FB-16361975B3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351E-5AA5-4EE6-8062-C20846630C8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B757-9258-462B-9F4B-702518F11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6200" y="196560"/>
            <a:ext cx="8229600" cy="112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ирование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33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6" name="Заголовок 1"/>
          <p:cNvSpPr/>
          <p:nvPr/>
        </p:nvSpPr>
        <p:spPr>
          <a:xfrm>
            <a:off x="860400" y="2138400"/>
            <a:ext cx="7456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93680" y="1541520"/>
            <a:ext cx="86868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рган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контроля (надзора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знает декларацию о соответствии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недействительн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в случаях выявлени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х фактов несоответствия продукции обязательным требованиям технических регламенто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ых сведений о заявителе и (или) об изготовителе продукции, адресах их места нахождения и (или) осуществления деятельности, в том числе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есте (местах) осуществления деятельности по изготовлению продукции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ларации о соответств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сти сведений и документов, послуживших основанием для подтверждения соответствия продукции обязательным требования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я декларации о соответствии требованиям к декларациям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установленным законодательством Российской Федерации в сфере технического регулирования и (или) правом Евразийского экономического союз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с нарушением установленных процедур обязательного подтверждения соответств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лицом, не включенным в круг заявителей на оценку соответствия по выбранной схеме декларирования, определенный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ехническим регламент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0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7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0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62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7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0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80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5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14.03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06" name="Объект 2"/>
          <p:cNvGraphicFramePr/>
          <p:nvPr/>
        </p:nvGraphicFramePr>
        <p:xfrm>
          <a:off x="609480" y="1339920"/>
          <a:ext cx="807732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9920"/>
                    <a:ext cx="807732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741240" y="2362320"/>
            <a:ext cx="80661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87880" y="1676520"/>
          <a:ext cx="5630760" cy="449568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0948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3000"/>
          </a:bodyPr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ю Правительства РФ от 14.03.2022 N 362 «О введении временного запрета на вывоз зерновых культур за пределы территории Российской Федерации»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5 марта по 30 июня 2022 г. установлен временный запрет на вывоз из Российской Федерации пшеницы и меслина, ржи, ячменя и кукурузы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на основании разовых лицензий на экспорт, выданных Министерством промышленности и торговли Российской Федерации в соответствии с пунктом 7 постановления Правительства Российской Федера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31 декабря 2021 г. N 2595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Белоруссию в рамках Союзного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4BF9-1AB8-43CB-8898-6F0748C1AC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4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39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8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2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6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9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2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5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8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3-17T09:50:44Z</dcterms:modified>
  <cp:revision>9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